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41C-EBBE-4C79-95D3-79577925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6A4-79C6-4FAD-AD7D-0914CA55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C81-A4CF-4349-889A-5DC556AF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6F8-B287-4381-BC84-8753A20F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BD9B-7A84-43E9-B98E-62DE7197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B15E-EA71-4986-B037-AFFE8978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F24C-5A9A-4ABE-B222-C7790C15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1F9F-A948-49DB-927D-96603D0A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FF98-83C1-4A21-BFB3-24667F0D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81E2-B4E5-4260-B015-ADD74F6E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836A-B5B1-4886-8459-9B639837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9D8-9F2B-49E5-9A4C-A1A6282F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0DDD-49E5-4103-8387-2CB71C7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E6A4-D052-48C7-B921-322F40A9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95DB-46A2-4404-85E5-9E58E972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415D-C8FB-430F-A5CB-03592D3D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114C-1D31-4427-8169-C3CDE240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929-CE50-43B0-A7A5-4A6121F8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634-47C3-4625-98E0-12809329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C3D-4CE0-41E4-82E0-6DF3C899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137-BF27-424F-B173-6D9A2951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8CA-09C6-4FF0-A977-2E8F239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1EA-47F2-45CD-9836-6CE8440C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BC5-A257-4729-B137-C64EDE26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E043-C820-4F7C-A4F1-DDEB44505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7880" y="0"/>
            <a:ext cx="1064520" cy="6858000"/>
            <a:chOff x="227880" y="0"/>
            <a:chExt cx="1064520" cy="6858000"/>
          </a:xfrm>
        </p:grpSpPr>
        <p:grpSp>
          <p:nvGrpSpPr>
            <p:cNvPr id="7" name=""/>
            <p:cNvGrpSpPr/>
            <p:nvPr/>
          </p:nvGrpSpPr>
          <p:grpSpPr>
            <a:xfrm>
              <a:off x="270000" y="0"/>
              <a:ext cx="1012680" cy="6857640"/>
              <a:chOff x="270000" y="0"/>
              <a:chExt cx="1012680" cy="6857640"/>
            </a:xfrm>
          </p:grpSpPr>
          <p:sp>
            <p:nvSpPr>
              <p:cNvPr id="8" name=""/>
              <p:cNvSpPr/>
              <p:nvPr/>
            </p:nvSpPr>
            <p:spPr>
              <a:xfrm flipH="1">
                <a:off x="279360" y="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79360" y="169740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79360" y="129168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79360" y="15372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79360" y="989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79360" y="68472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79000" y="37692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271440" y="394416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271440" y="3538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71440" y="239976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271440" y="323496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71440" y="293112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70720" y="262224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279360" y="497520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279360" y="456912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271440" y="567720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 rot="16200000">
                <a:off x="592920" y="618840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>
                <a:off x="271440" y="620928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270720" y="589968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" name=""/>
            <p:cNvSpPr/>
            <p:nvPr/>
          </p:nvSpPr>
          <p:spPr>
            <a:xfrm flipH="1" rot="16200000">
              <a:off x="-2874240" y="310176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 rot="16200000">
              <a:off x="-2285640" y="327780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B530-6F6C-4C54-B32A-99F5A420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Verdana"/>
              </a:rPr>
              <a:t>FractalMagic</a:t>
            </a:r>
            <a:endParaRPr b="1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Project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esh S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Pavan Kuma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 – </a:t>
            </a: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Design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1905120"/>
            <a:ext cx="7238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ject is designed on controlle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actalMag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main controll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ctually starts any of the registered fractals on user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ac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common 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ll the common functionality for all the fractals implem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classes inheriting from th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ac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contain actual code for that frac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 – </a:t>
            </a: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Design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8080" y="5148360"/>
            <a:ext cx="1057320" cy="511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6041880"/>
            <a:ext cx="1452600" cy="511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delbr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8080" y="2209680"/>
            <a:ext cx="1057320" cy="511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68920" y="6041880"/>
            <a:ext cx="1189080" cy="511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rassic p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8080" y="3103560"/>
            <a:ext cx="10573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al Ma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6920" y="272088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37160" y="2592360"/>
            <a:ext cx="1057320" cy="511200"/>
          </a:xfrm>
          <a:prstGeom prst="wedgeRoundRectCallout">
            <a:avLst>
              <a:gd name="adj1" fmla="val -59861"/>
              <a:gd name="adj2" fmla="val 82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79840" y="6041880"/>
            <a:ext cx="1057320" cy="511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55720" y="5659560"/>
            <a:ext cx="1320840" cy="38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565956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5659560"/>
            <a:ext cx="923760" cy="5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8080" y="4224240"/>
            <a:ext cx="1057320" cy="511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476424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4648320"/>
            <a:ext cx="1057320" cy="511200"/>
          </a:xfrm>
          <a:prstGeom prst="wedgeRoundRectCallout">
            <a:avLst>
              <a:gd name="adj1" fmla="val -105106"/>
              <a:gd name="adj2" fmla="val 7919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Bas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6248520"/>
            <a:ext cx="75960" cy="759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6248520"/>
            <a:ext cx="75960" cy="759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6248520"/>
            <a:ext cx="76320" cy="759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1000" y="6248520"/>
            <a:ext cx="76320" cy="759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 – </a:t>
            </a: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mplementation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2057400"/>
            <a:ext cx="7620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7 different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ctalMagic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ontains the main controll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ctal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ontains the bas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delbrot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he Mandelbrot set fract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erp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he Sierpensky gasket fract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park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The Jurassic park set fract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sh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The BushTree fract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ee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The Tree fract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 – </a:t>
            </a: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Bibliography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1981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209680"/>
            <a:ext cx="69339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ooks and Re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VA 2 , THE COMPLETE REFERENC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rbert Schil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ER GRAPH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Foley, vanDam, Feiner, Hug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vanced Fractal Generation: Roger T Ste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ebsi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ww.howstuffworks.c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mathworks/geometry/fractalworl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2057400"/>
            <a:ext cx="487692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act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act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jec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jec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ject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 - </a:t>
            </a: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tion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2286000"/>
            <a:ext cx="6705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done in Java prog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cases the wonderful world of self similarity in frac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na01441_" descr=""/>
          <p:cNvPicPr/>
          <p:nvPr/>
        </p:nvPicPr>
        <p:blipFill>
          <a:blip r:embed="rId1"/>
          <a:stretch/>
        </p:blipFill>
        <p:spPr>
          <a:xfrm>
            <a:off x="7162920" y="4572000"/>
            <a:ext cx="149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 - </a:t>
            </a: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Introduction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2057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Java Prog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2971800"/>
            <a:ext cx="6248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Object 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upport in the form of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ly typed and robust (unlike c on 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 – </a:t>
            </a: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Fractal World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09680"/>
            <a:ext cx="7010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form of advanced graphics modeling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 be defined as the mathematical models that exhibit some kind of self similarity or self repea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are generated using some particular mathematical equations or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kinds of fractals- self similar and self rep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 – </a:t>
            </a: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Fractal World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981080"/>
            <a:ext cx="7391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ractals have their areas and perimeters are infin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farther you zoom in to the perimeter of a fractal, the more bumps, curves, folds, spikes, and curls you se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color at pixels depends on the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imarily used as recreational math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lso used in creating landscapes and in data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 – </a:t>
            </a: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Fractal Algorithm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9051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ndelbro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438280"/>
            <a:ext cx="74674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graph of the equ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Z=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+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 and 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x numb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'C‘ remains 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the complex number 'Z' varies each time the function is calculated, since the formula is set equal to 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inside mandelbrot set if its (x,y) values meet condition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&lt;4 after many it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 – </a:t>
            </a: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Fractal Algorithm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1981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Jurrasic Park Fra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2133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095880" y="2437920"/>
            <a:ext cx="1981440" cy="1600560"/>
            <a:chOff x="6095880" y="2437920"/>
            <a:chExt cx="1981440" cy="1600560"/>
          </a:xfrm>
        </p:grpSpPr>
        <p:sp>
          <p:nvSpPr>
            <p:cNvPr id="151" name=""/>
            <p:cNvSpPr/>
            <p:nvPr/>
          </p:nvSpPr>
          <p:spPr>
            <a:xfrm flipV="1">
              <a:off x="6095880" y="2437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086600" y="2437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086600" y="32004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8001000" y="3276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40384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5880" y="2438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181480" y="1981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4572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72388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71500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057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3244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057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70572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6960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62940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6400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6201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292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077320" y="6400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620120" y="6400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6858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6858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1629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6201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6201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0120" y="6400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61048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01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5328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7320" y="5638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743200"/>
            <a:ext cx="3429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ine splits up into a predefined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procedures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propounded in the novel Jurassic Park –hence th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ractalMagic – </a:t>
            </a:r>
            <a:r>
              <a:rPr b="1" lang="en-US" sz="2400" spc="-1" strike="noStrike">
                <a:solidFill>
                  <a:srgbClr val="003366"/>
                </a:solidFill>
                <a:latin typeface="Arial Black"/>
              </a:rPr>
              <a:t>Requirements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1981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Requirement for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743200"/>
            <a:ext cx="6553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should be an application coded in Java projramm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should be able to view and explore atleast three different frac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actals should show the self similarity to users through zoom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should be able to save the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02:38:09Z</dcterms:created>
  <dc:creator>pavan</dc:creator>
  <dc:description/>
  <dc:language>en-US</dc:language>
  <cp:lastModifiedBy>pavan</cp:lastModifiedBy>
  <dcterms:modified xsi:type="dcterms:W3CDTF">2003-01-03T04:15:11Z</dcterms:modified>
  <cp:revision>9</cp:revision>
  <dc:subject/>
  <dc:title>FractalMagic</dc:title>
</cp:coreProperties>
</file>